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27A-0158-43F4-93A0-C3FEE11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C0C-B99E-4ADB-847F-3C60FFD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C83-A959-4367-9A90-A5BCA376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97D-83DB-4705-B316-89A5A1DA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2834-6B5F-4C3E-8DA2-9BC46F04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D205-F44D-45F5-A1BE-B0326255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3AD3-61CC-4AF5-9564-D00802B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2C6A-DD85-487A-91F3-1C54F65C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65C-6AC7-4A29-BE87-64A53B7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6407-636C-46F4-A392-3069E362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6784-BA6A-4F34-AE1B-47D4B5A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32-D9C8-4B92-96D0-208B7F6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903F-85DF-46FE-BC8F-9FC9C0D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1A16-C0E7-4DA1-8273-F3B7D44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6F4C-C395-4B79-AC7E-C3446D4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E82-A4F5-4CBD-B55B-2A45900D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5428-BA03-47B5-B5AB-D72152C0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4A7-8B3D-4E3E-AA5F-80F18157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D5E-5094-438E-9CD9-FE2EBAC5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279-F593-45A1-AF92-1F39A73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2E2-2912-4F2D-992C-FD97138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B09-AE6E-48F4-87F4-1DC0B2E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BBF-E60F-4FED-9AFC-B6B867C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897-F45B-487F-A341-3492712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9306-8D62-4503-BFA6-9E84CF2DDDF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4445-2B4E-4F8E-B194-65256CD26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Școala cu cls I-VIII Pavel Dan Tritenii de 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voluția american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 proi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mestec de englezi, scotieni, irlandezi, francezi, olandezi, germani si suedezi…Din acest amestec pestrit s-a nascut aceasta rasa pe care o numim americani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REVOLUȚIA AMERICANĂ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omic"/>
              </a:rPr>
              <a:t>“Partida de ceai de la </a:t>
            </a: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Boston</a:t>
            </a:r>
            <a:r>
              <a:rPr b="1" lang="ro-RO" sz="2800" spc="-1" strike="noStrike">
                <a:solidFill>
                  <a:srgbClr val="000000"/>
                </a:solidFill>
                <a:latin typeface="comic"/>
              </a:rPr>
              <a:t>”.</a:t>
            </a: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"/>
              </a:rPr>
              <a:t>         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Un grup de americani, deghizaţi în indieni, au urcat la bordul navelor engleze şi au aruncat toată încărcătura de ceai în m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gres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ul de la Philadelph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Lupta de l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rato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41:04Z</dcterms:created>
  <dc:creator>user</dc:creator>
  <dc:description/>
  <dc:language>en-US</dc:language>
  <cp:lastModifiedBy>user</cp:lastModifiedBy>
  <dcterms:modified xsi:type="dcterms:W3CDTF">2010-05-05T13:30:19Z</dcterms:modified>
  <cp:revision>10</cp:revision>
  <dc:subject/>
  <dc:title>Revoluțiile epocii moderne</dc:title>
</cp:coreProperties>
</file>